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CC7-6F39-4017-9EDB-FC9DEE94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ADEC-2B61-4498-BC67-C1934751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D2B-213D-46AC-95F5-ABE54887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2EE1-B56C-462D-AC1C-45672397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25CA-C530-4DF7-8985-89D6BBCE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AFA2-BDE6-4E1E-898A-0C95379D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7308-1DC6-4476-8F70-BF88447A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A268-81DB-49B1-A7AA-B8E3341C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D01A-84FE-48B5-AE1D-219D4745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F9EA-DE3C-408F-BD21-4D53EF23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34E3-D40F-4DD5-A766-AC70DF2A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FFE-192A-41F8-B528-27A83F17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E7D6-B1B5-4636-90AD-A5D3FE9C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773D-FEF3-4BD8-A50C-9C0427FF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131F-8CD7-45E1-BE76-1D96CD8B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91D9-A015-44B8-BAF4-860DC867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D0B3-3E42-43C0-973F-EEF6F780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E25-2348-4CE5-9129-A63435B6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EC6-E072-4A9C-A2AB-6F7BCC65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628-BA03-4B60-B98E-BF0B18D1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2FE-0F9D-4D0F-9A13-80D0F65B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3FC0-56C0-464D-ACAD-61C5620D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C93E-1A8A-4510-B9E8-173AD7C3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8586-F62E-4DF2-998C-6E9B0D51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BF33-A35B-4333-8B2B-37AE825D2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1046-5072-4BC2-9A29-07E984CFFE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hyperlink" Target="http://www.youtube.com/watch?v=rZwZba26ris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Takahe on Kapiti Island. Photo: Brent Tandy."/>
          <p:cNvPicPr/>
          <p:nvPr/>
        </p:nvPicPr>
        <p:blipFill>
          <a:blip r:embed="rId1"/>
          <a:stretch/>
        </p:blipFill>
        <p:spPr>
          <a:xfrm>
            <a:off x="1476360" y="2305080"/>
            <a:ext cx="4824360" cy="31370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this bird?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ere would you find i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106720" y="560880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ahe on Kapiti Isl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ittle spotted kiwi thrives on Kapiti Island but is now extinct on the main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birds you are likely to see in the bush include kereru (NZ pigeon), North Island tomtit, kaka, whitehead, tui, fantail, long-tailed cuckoo (in summer only) and silverey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2-Kereruu"/>
          <p:cNvPicPr/>
          <p:nvPr/>
        </p:nvPicPr>
        <p:blipFill>
          <a:blip r:embed="rId1"/>
          <a:stretch/>
        </p:blipFill>
        <p:spPr>
          <a:xfrm>
            <a:off x="4857840" y="1785960"/>
            <a:ext cx="3336840" cy="250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_-Kiwi--"/>
          <p:cNvPicPr/>
          <p:nvPr/>
        </p:nvPicPr>
        <p:blipFill>
          <a:blip r:embed="rId2"/>
          <a:stretch/>
        </p:blipFill>
        <p:spPr>
          <a:xfrm>
            <a:off x="928800" y="1803240"/>
            <a:ext cx="3000240" cy="24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are these bird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4" descr="saddleback_1356"/>
          <p:cNvPicPr/>
          <p:nvPr/>
        </p:nvPicPr>
        <p:blipFill>
          <a:blip r:embed="rId1"/>
          <a:stretch/>
        </p:blipFill>
        <p:spPr>
          <a:xfrm>
            <a:off x="785880" y="1643040"/>
            <a:ext cx="4286160" cy="2924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406880" y="501336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ddle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1" descr="Kokako"/>
          <p:cNvPicPr/>
          <p:nvPr/>
        </p:nvPicPr>
        <p:blipFill>
          <a:blip r:embed="rId2"/>
          <a:stretch/>
        </p:blipFill>
        <p:spPr>
          <a:xfrm>
            <a:off x="5429160" y="1285920"/>
            <a:ext cx="2897280" cy="4645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9"/>
          <p:cNvSpPr/>
          <p:nvPr/>
        </p:nvSpPr>
        <p:spPr>
          <a:xfrm>
            <a:off x="6650280" y="6072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ka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bellbird"/>
          <p:cNvPicPr/>
          <p:nvPr/>
        </p:nvPicPr>
        <p:blipFill>
          <a:blip r:embed="rId1"/>
          <a:stretch/>
        </p:blipFill>
        <p:spPr>
          <a:xfrm>
            <a:off x="571680" y="500040"/>
            <a:ext cx="4995720" cy="3238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1932120" y="40719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llbi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8" descr="Kaakaa--"/>
          <p:cNvPicPr/>
          <p:nvPr/>
        </p:nvPicPr>
        <p:blipFill>
          <a:blip r:embed="rId2"/>
          <a:stretch/>
        </p:blipFill>
        <p:spPr>
          <a:xfrm>
            <a:off x="3929040" y="2786040"/>
            <a:ext cx="4917960" cy="3281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7217280" y="2143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nz-robin"/>
          <p:cNvPicPr/>
          <p:nvPr/>
        </p:nvPicPr>
        <p:blipFill>
          <a:blip r:embed="rId1"/>
          <a:stretch/>
        </p:blipFill>
        <p:spPr>
          <a:xfrm>
            <a:off x="250920" y="189000"/>
            <a:ext cx="4701960" cy="3224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471960" y="476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th Island Rob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1" descr="stitchbird"/>
          <p:cNvPicPr/>
          <p:nvPr/>
        </p:nvPicPr>
        <p:blipFill>
          <a:blip r:embed="rId2"/>
          <a:stretch/>
        </p:blipFill>
        <p:spPr>
          <a:xfrm>
            <a:off x="3780000" y="2924280"/>
            <a:ext cx="4895640" cy="3384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2"/>
          <p:cNvSpPr/>
          <p:nvPr/>
        </p:nvSpPr>
        <p:spPr>
          <a:xfrm>
            <a:off x="2629440" y="580536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itchbi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36160" y="5516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Tui"/>
          <p:cNvPicPr/>
          <p:nvPr/>
        </p:nvPicPr>
        <p:blipFill>
          <a:blip r:embed="rId1"/>
          <a:stretch/>
        </p:blipFill>
        <p:spPr>
          <a:xfrm>
            <a:off x="1187280" y="544680"/>
            <a:ext cx="648036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96720" y="11970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yal Spoonb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ka and ch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Colony-of-Royal-Spoonbills"/>
          <p:cNvPicPr/>
          <p:nvPr/>
        </p:nvPicPr>
        <p:blipFill>
          <a:blip r:embed="rId1"/>
          <a:stretch/>
        </p:blipFill>
        <p:spPr>
          <a:xfrm>
            <a:off x="0" y="0"/>
            <a:ext cx="5580000" cy="4189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Weka-and-chick"/>
          <p:cNvPicPr/>
          <p:nvPr/>
        </p:nvPicPr>
        <p:blipFill>
          <a:blip r:embed="rId2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2666880"/>
            <a:ext cx="452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rds that can be seen around the coast include black-backed and red-billed gulls; white-fronted tern; variable oystercatcher; reef heron, and little, black and spotted shags. On the boat trip to and from the island you can often see gannets, fluttering shearwaters, and little blue pengui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Paradise-ducks"/>
          <p:cNvPicPr/>
          <p:nvPr/>
        </p:nvPicPr>
        <p:blipFill>
          <a:blip r:embed="rId1"/>
          <a:stretch/>
        </p:blipFill>
        <p:spPr>
          <a:xfrm>
            <a:off x="684360" y="0"/>
            <a:ext cx="3205080" cy="2652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Korora%20-%20Blue%20Penguin"/>
          <p:cNvPicPr/>
          <p:nvPr/>
        </p:nvPicPr>
        <p:blipFill>
          <a:blip r:embed="rId2"/>
          <a:stretch/>
        </p:blipFill>
        <p:spPr>
          <a:xfrm>
            <a:off x="4427640" y="260280"/>
            <a:ext cx="3887640" cy="2916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Nth-end-hill-evening"/>
          <p:cNvPicPr/>
          <p:nvPr/>
        </p:nvPicPr>
        <p:blipFill>
          <a:blip r:embed="rId3"/>
          <a:stretch/>
        </p:blipFill>
        <p:spPr>
          <a:xfrm>
            <a:off x="5076720" y="2932200"/>
            <a:ext cx="2946600" cy="3925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9"/>
          <p:cNvSpPr/>
          <p:nvPr/>
        </p:nvSpPr>
        <p:spPr>
          <a:xfrm>
            <a:off x="5439600" y="33336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ttle Blue Pengu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387440" y="1364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dise duc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684360" y="2922840"/>
            <a:ext cx="784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piti Island is the summit of a submerged mountain range created by earthquakes 200 million years a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one time, moa and kakapo wandered the valley that lay between the mountains to the rest of the mainlan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million years ago, most of this range was inundated by rising sea level. It was, for a time, part of a land bridge that extended across what is now Cook Strait. What remains is an island about 10 km long and 2 km wide of wind-blasted hillsides to the west and lush temperate rain forests to the sheltered e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6" descr="Aerial view of Kapiti Island, looking north to south. Photo: Kevin L.Jones. "/>
          <p:cNvPicPr/>
          <p:nvPr/>
        </p:nvPicPr>
        <p:blipFill>
          <a:blip r:embed="rId1"/>
          <a:stretch/>
        </p:blipFill>
        <p:spPr>
          <a:xfrm>
            <a:off x="155520" y="46080"/>
            <a:ext cx="4129200" cy="255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ap showing location of Wellington region."/>
          <p:cNvPicPr/>
          <p:nvPr/>
        </p:nvPicPr>
        <p:blipFill>
          <a:blip r:embed="rId2"/>
          <a:stretch/>
        </p:blipFill>
        <p:spPr>
          <a:xfrm>
            <a:off x="6804000" y="0"/>
            <a:ext cx="1749600" cy="244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3997440" y="134136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is Kapit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1983240" y="595008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www.youtube.com/watch?v=rZwZba26r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2:52:40Z</dcterms:created>
  <dc:creator>millerde</dc:creator>
  <dc:description/>
  <dc:language>en-US</dc:language>
  <cp:lastModifiedBy>Administrator</cp:lastModifiedBy>
  <dcterms:modified xsi:type="dcterms:W3CDTF">2009-12-06T09:06:33Z</dcterms:modified>
  <cp:revision>4</cp:revision>
  <dc:subject/>
  <dc:title>What is this bird?  Where would you find it?</dc:title>
</cp:coreProperties>
</file>